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B469-4A71-45B0-9059-B698C894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C7A7-7EE2-4C6F-AD4B-CDAC3B19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9354-E6D9-4E7B-9C97-DE4BE82A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20F0-919A-4071-9620-101E419A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2C9E-A441-4FF8-A7D3-2A9D4789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6EE4-57C4-48E8-940C-833CB77B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9EDC-9DAA-4440-AF29-457234BA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C690-3FEF-4BEF-AE5B-944B8BA1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E49F-375E-48ED-9D7A-AC3B1DED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89D5-BE57-4AB0-8D8F-6DD396C4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486C-6E66-41C1-95D3-79BDF420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5C18-5B80-418D-8B27-43B2175C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26EF-9D2B-4E25-B210-418A7237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88F9-605B-4D1E-8055-B29D40B7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8676-21CA-4F59-A867-ED61C62E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442F-D7C0-4E93-A047-109EF7C0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544BA-58B6-4F7E-8843-88B480A5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5D5C2-9969-4787-AAE2-3F0C6206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1BCCD-DAC7-4540-ADFE-ED9F6282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6F77A-84EB-4ABE-9BF2-84DED73F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D49B4-C77D-49E2-A8DC-620BD314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188AE-4978-4BB9-A599-4EB4EAB6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22F0A-350A-4A34-B6DF-29ECAC1E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96608-FB63-4238-A20F-EB10DD8C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4100C-59D1-4DFB-BC4D-53C306D9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6FF58-6416-401A-9AB3-5D943310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55211-6EEE-4219-9AE0-EF072B6D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C0557-D10C-4B6C-B070-16D0FEB8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03E4-996F-4B22-B71F-A3D2208B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D0C5-6A04-4FD6-BEA3-F4DDBCCF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0056-7928-47FC-B778-C9C9E21A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847-2996-4F96-BDC0-B783E1C5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B25A-18FB-4F98-9EE1-4A6FA007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7203-8972-4B37-A1A5-201079DE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5BAE-79D5-4AE8-9BD7-A995C20C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D83F-0EC2-42C3-A39F-83CD78C9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87DF-C59D-43B7-9B12-C0F9C6E818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94D6-F1B2-45EE-B8C9-E51A0DF7FEF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E9A5-61E3-414F-8820-1528701D6EB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8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8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54160" y="341280"/>
            <a:ext cx="6364080" cy="222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Navodila organa upravljanja za izvajanje</a:t>
            </a:r>
            <a:br>
              <a:rPr sz="2800"/>
            </a:b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upravljalnih preverjanj po 125. členu Uredbe (EU) št. 1303/2013</a:t>
            </a:r>
            <a:br>
              <a:rPr sz="2800"/>
            </a:b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za programsko obdobje 2014-2020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23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1.12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Content Placeholder 3" descr=""/>
          <p:cNvPicPr/>
          <p:nvPr/>
        </p:nvPicPr>
        <p:blipFill>
          <a:blip r:embed="rId1"/>
          <a:stretch/>
        </p:blipFill>
        <p:spPr>
          <a:xfrm>
            <a:off x="378000" y="1494000"/>
            <a:ext cx="8119800" cy="490032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Preverjanje opravljanja prenesenih nalog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Content Placeholder 3" descr=""/>
          <p:cNvPicPr/>
          <p:nvPr/>
        </p:nvPicPr>
        <p:blipFill>
          <a:blip r:embed="rId1"/>
          <a:stretch/>
        </p:blipFill>
        <p:spPr>
          <a:xfrm>
            <a:off x="579600" y="1182600"/>
            <a:ext cx="8064360" cy="5334120"/>
          </a:xfrm>
          <a:prstGeom prst="rect">
            <a:avLst/>
          </a:prstGeom>
          <a:ln w="0">
            <a:noFill/>
          </a:ln>
        </p:spPr>
      </p:pic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9040" y="364680"/>
            <a:ext cx="782640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Nepravilnosti – finančni popravki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529920" y="1080720"/>
            <a:ext cx="7985160" cy="54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Vzorci prilo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L za izvedbo kontrole zahtevka za izplači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L po vrsti stroš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L za izvedbo javnega naročila po odprtem postopku – ZJN-2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bvestilo O IZVEDBI PREVERJANJA NA KRAJU SAM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ročila o izvedenem preverjanju na kraju sam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L o izvedenem preverjanju na kraju sam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L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 spoštovanju nacionalnih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EU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pravil na področju komuniciranja in informir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L - plačila s poboti (kompenzacija), asignacija, ces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37920" y="365040"/>
            <a:ext cx="787716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Priloga navodilom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Content Placeholder 3" descr=""/>
          <p:cNvPicPr/>
          <p:nvPr/>
        </p:nvPicPr>
        <p:blipFill>
          <a:blip r:embed="rId1"/>
          <a:stretch/>
        </p:blipFill>
        <p:spPr>
          <a:xfrm>
            <a:off x="371520" y="1603440"/>
            <a:ext cx="8175600" cy="4541760"/>
          </a:xfrm>
          <a:prstGeom prst="rect">
            <a:avLst/>
          </a:prstGeom>
          <a:ln w="0">
            <a:noFill/>
          </a:ln>
        </p:spPr>
      </p:pic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95440" y="365040"/>
            <a:ext cx="79200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00000"/>
                </a:solidFill>
                <a:latin typeface="Calibri Light"/>
              </a:rPr>
              <a:t>KL za izvedbo kontrole ZZI</a:t>
            </a:r>
            <a:br>
              <a:rPr sz="4000"/>
            </a:br>
            <a:r>
              <a:rPr b="1" lang="pl-PL" sz="3600" spc="-1" strike="noStrike" u="sng">
                <a:solidFill>
                  <a:srgbClr val="c00000"/>
                </a:solidFill>
                <a:uFillTx/>
                <a:latin typeface="Calibri Light"/>
              </a:rPr>
              <a:t>vedno izpolniti!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4" descr="http://zabavno.si/wp-content/uploads/2014/09/vprasanja-odgovori-zabavno.jpg"/>
          <p:cNvPicPr/>
          <p:nvPr/>
        </p:nvPicPr>
        <p:blipFill>
          <a:blip r:embed="rId1"/>
          <a:stretch/>
        </p:blipFill>
        <p:spPr>
          <a:xfrm>
            <a:off x="358920" y="-36360"/>
            <a:ext cx="753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18640" y="364680"/>
            <a:ext cx="706788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00000"/>
                </a:solidFill>
                <a:latin typeface="Calibri Light"/>
              </a:rPr>
              <a:t>Kazal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55" name="Content Placeholder 3" descr=""/>
          <p:cNvPicPr/>
          <p:nvPr/>
        </p:nvPicPr>
        <p:blipFill>
          <a:blip r:embed="rId1"/>
          <a:stretch/>
        </p:blipFill>
        <p:spPr>
          <a:xfrm>
            <a:off x="853920" y="1268280"/>
            <a:ext cx="790596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Content Placeholder 3" descr=""/>
          <p:cNvPicPr/>
          <p:nvPr/>
        </p:nvPicPr>
        <p:blipFill>
          <a:blip r:embed="rId1"/>
          <a:stretch/>
        </p:blipFill>
        <p:spPr>
          <a:xfrm>
            <a:off x="158760" y="890640"/>
            <a:ext cx="9009000" cy="596736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29720" y="174240"/>
            <a:ext cx="77677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Pravna podlaga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Content Placeholder 3" descr=""/>
          <p:cNvPicPr/>
          <p:nvPr/>
        </p:nvPicPr>
        <p:blipFill>
          <a:blip r:embed="rId1"/>
          <a:stretch/>
        </p:blipFill>
        <p:spPr>
          <a:xfrm>
            <a:off x="311040" y="1566720"/>
            <a:ext cx="8266320" cy="485784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Kontrola/preverjanj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217080" y="1535040"/>
            <a:ext cx="876636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4. odstavek 125 člen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Calibri"/>
              </a:rPr>
              <a:t>(a) preverjanje, ali so bili sofinancirani proizvodi in storitve zagotovljeni ter ali so bili izdatki, ki so jih prijavili upravičenci , plačani in ali so ti v skladu z veljavno zakonodajo, operativnim programom in izpolnjeni pogoji za podporo operaciji; (b) zagotavlja, da upravičenci, vključeni v izvajanje operacij, za katere se vrnejo upravičeni in dejansko nastali izdatki, vodijo ločeno računovodstvo ali ustrezno računovodsko kodo za vse transakcije v zvezi z operacijo; (c) ob upoštevanju ugotovljenih tveganj uvede učinkovite in sorazmerne ukrepe za preprečevanje goljufij; (d) vzpostavi postopke, ki zagotavljajo, da se vsi dokumenti v zvezi z izdatki in revizijami, ki se zahtevajo za zagotovitev ustrezne revizijske sledi, hranijo v skladu z zahtevami iz točke (g) člena 72; (e) pripravi izjavo o upravljanju in letni povzetek iz točk (a) in (b) člena 59(5) finančne uredb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39440" y="365040"/>
            <a:ext cx="777564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125. člen Uredbe (EU) št. 1303/2013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Content Placeholder 3" descr=""/>
          <p:cNvPicPr/>
          <p:nvPr/>
        </p:nvPicPr>
        <p:blipFill>
          <a:blip r:embed="rId1"/>
          <a:stretch/>
        </p:blipFill>
        <p:spPr>
          <a:xfrm>
            <a:off x="407880" y="1298520"/>
            <a:ext cx="8259840" cy="526104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365040"/>
            <a:ext cx="790596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Vrste upravljalnih preverjanj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Content Placeholder 3" descr=""/>
          <p:cNvPicPr/>
          <p:nvPr/>
        </p:nvPicPr>
        <p:blipFill>
          <a:blip r:embed="rId1"/>
          <a:stretch/>
        </p:blipFill>
        <p:spPr>
          <a:xfrm>
            <a:off x="536400" y="1285920"/>
            <a:ext cx="8242560" cy="530388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11360" y="364680"/>
            <a:ext cx="7804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Kdo izvaja upravljalna preverjanja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Content Placeholder 4" descr=""/>
          <p:cNvPicPr/>
          <p:nvPr/>
        </p:nvPicPr>
        <p:blipFill>
          <a:blip r:embed="rId1"/>
          <a:stretch/>
        </p:blipFill>
        <p:spPr>
          <a:xfrm>
            <a:off x="450720" y="1243080"/>
            <a:ext cx="8077320" cy="531000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60240" y="365040"/>
            <a:ext cx="78552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Administrativno preverjanj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Content Placeholder 3" descr=""/>
          <p:cNvPicPr/>
          <p:nvPr/>
        </p:nvPicPr>
        <p:blipFill>
          <a:blip r:embed="rId1"/>
          <a:stretch/>
        </p:blipFill>
        <p:spPr>
          <a:xfrm>
            <a:off x="554040" y="1371600"/>
            <a:ext cx="8188200" cy="482112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37920" y="365040"/>
            <a:ext cx="787716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Preverjanje na kraju samem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Irena Brcko Kogoj</cp:lastModifiedBy>
  <dcterms:modified xsi:type="dcterms:W3CDTF">2015-11-30T07:56:54Z</dcterms:modified>
  <cp:revision>57</cp:revision>
  <dc:subject/>
  <dc:title>PowerPoint Presentation</dc:title>
</cp:coreProperties>
</file>